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bomb.wav" ContentType="audio/x-wav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C966-A85D-4B2A-B3D7-0C531F084E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B28F-9F80-4D14-9F1C-431A9791891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E9F8-A8CD-41E6-B3C9-02D8CDA763C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69D8-61CF-40ED-A810-86710E92797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F424-9B70-40C9-A584-F3D03C6B03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ECD5-4C20-4755-AEFC-23C35558D8D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3704-40B3-481A-B20C-4CAD47F9F7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D344-67BA-45B4-A1E7-596018BB9FB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8F78-E8A0-44ED-AECD-39CE9B0D91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A7F3-1939-488F-92B8-BDDBF180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13DA-6F51-4E03-8FDA-FE6E13CE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CD3D-0C4B-4560-B77D-B931EB33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B888-A322-4096-AADA-084704103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759E-490F-46C2-A7E5-49E79170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7D54-F284-48A2-AC7D-94AD86D36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314D-DB30-4B26-83AB-107DA5EC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5561E-6BBE-4CAB-8CDB-BE3ABCAD6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8202-1381-4613-8431-E3D5FA19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F952-F613-47B3-A47E-AF59C8E6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29D0-1CE1-451C-B736-450198A4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5F50-1BDE-43C2-945B-BF613735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B5F9-DC1D-4F9A-9E12-197887DE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9B08-281E-4C5A-972E-AEE7041C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D2778-DFF4-4D71-94C5-D74AEDA9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E986-C564-412E-8D79-BB90DAA47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DE77-DD5C-4477-93CD-0BC4408E3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9C8-ACC3-46D0-91F7-7622B650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C3A-4BFF-4A38-B967-478E8928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DCFE-1963-4EF3-BB62-51D4CCB6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D54-1049-4C5D-99ED-24902EF04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09C8-7A07-4297-A384-66F235C1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C661-249F-4789-AA27-189E9982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9436-4125-4D4B-BF31-57A27065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39A0-A64E-42D2-B378-9209D0A141F6}" type="slidenum"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ae060e">
                  <a:alpha val="45098"/>
                </a:srgbClr>
              </a:gs>
              <a:gs pos="100000">
                <a:srgbClr val="ff4a00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c44000">
                  <a:alpha val="45098"/>
                </a:srgbClr>
              </a:gs>
              <a:gs pos="100000">
                <a:srgbClr val="e1000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2da2b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da1f28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b641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39639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4eaef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B63B-7BD1-4453-BF4D-9FA9F1231B90}" type="slidenum">
              <a:rPr b="0" lang="en-US" sz="1200" spc="-1" strike="noStrike">
                <a:solidFill>
                  <a:srgbClr val="d4eae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Guess who it i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04" name="Picture 2" descr="C:\Program Files\Microsoft Office\MEDIA\CAGCAT10\j0302953.jpg"/>
          <p:cNvPicPr/>
          <p:nvPr/>
        </p:nvPicPr>
        <p:blipFill>
          <a:blip r:embed="rId2"/>
          <a:stretch/>
        </p:blipFill>
        <p:spPr>
          <a:xfrm>
            <a:off x="1828800" y="320040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y favorite subject is music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Music"/>
          <p:cNvSpPr/>
          <p:nvPr/>
        </p:nvSpPr>
        <p:spPr>
          <a:xfrm>
            <a:off x="2895480" y="1066680"/>
            <a:ext cx="5562720" cy="4172040"/>
          </a:xfrm>
          <a:prstGeom prst="pie">
            <a:avLst/>
          </a:prstGeom>
          <a:solidFill>
            <a:srgbClr val="da1f28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490205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8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y favorite book is invention of Hugo cabaray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0" name="Picture 2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3505320" y="2362320"/>
            <a:ext cx="4952880" cy="480060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y favorite place is the fridgirate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8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y favorite food is chocolate moose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8000">
    <p:dissolve/>
    <p:sndAc>
      <p:stSnd>
        <p:snd r:embed="rId1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would like to meet Elvis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8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am afraid of God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advTm="8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ef5fa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def5fa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b641b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I want to be a millionaire whe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1" name="Picture 2" descr="C:\Program Files\Microsoft Office\MEDIA\CAGCAT10\j0222015.wmf"/>
          <p:cNvPicPr/>
          <p:nvPr/>
        </p:nvPicPr>
        <p:blipFill>
          <a:blip r:embed="rId1"/>
          <a:stretch/>
        </p:blipFill>
        <p:spPr>
          <a:xfrm>
            <a:off x="1752480" y="2535120"/>
            <a:ext cx="4641840" cy="4659480"/>
          </a:xfrm>
          <a:prstGeom prst="rect">
            <a:avLst/>
          </a:prstGeom>
          <a:ln w="0">
            <a:noFill/>
          </a:ln>
        </p:spPr>
      </p:pic>
      <p:sp>
        <p:nvSpPr>
          <p:cNvPr id="122" name="Smiley Face 4"/>
          <p:cNvSpPr/>
          <p:nvPr/>
        </p:nvSpPr>
        <p:spPr>
          <a:xfrm>
            <a:off x="6095880" y="4267080"/>
            <a:ext cx="228600" cy="152640"/>
          </a:xfrm>
          <a:prstGeom prst="smileyFace">
            <a:avLst>
              <a:gd name="adj" fmla="val 9282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3:26:46Z</dcterms:created>
  <dc:creator> pc#17</dc:creator>
  <dc:description/>
  <dc:language>en-US</dc:language>
  <cp:lastModifiedBy> pc#17</cp:lastModifiedBy>
  <dcterms:modified xsi:type="dcterms:W3CDTF">2009-11-12T20:05:02Z</dcterms:modified>
  <cp:revision>12</cp:revision>
  <dc:subject/>
  <dc:title>Who am i</dc:title>
</cp:coreProperties>
</file>